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08E-6973-4049-B5A2-1ACC0D1A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080-26B1-4BDC-B634-4B10C8B2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E4E-7B90-4B05-8826-8EAEFAEA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9E6-9860-4345-9D10-17A8D297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C5B-EC5B-4390-B641-92C36179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9FE-ABEE-47E0-8B64-2A2AE026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DAE-8A4C-42A3-902E-B25A2B69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300-E9E9-4131-B37A-5B913514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645-5C18-427D-9071-3BCF2E3A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BD8-4645-4037-86FF-75F3094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109-0406-4D28-A719-20F9DA1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D32-B66E-4871-8D6C-AEAE969A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79F3-74E8-436E-95FD-B2983F4E42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Научное общество учащихся «ПОИСК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234900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«Восьмидесятые – девяностые – двухтысячные: язык газетных заголовков (по материалам районной газеты «Сибирский труженик»)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0" y="4581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учащаяся  11 «б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Ульянова Екатер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Количество слов в заголовке «Сибирского труженика» в разные годы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0" y="1714680"/>
          <a:ext cx="9144000" cy="42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14680"/>
                    <a:ext cx="9144000" cy="42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Типы заголовков, выделенные в ходе анализа статей районной газет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оминатив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нформатив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спрессив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будитель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Доминирующий тип заголовк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0" y="1700280"/>
          <a:ext cx="91440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9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Благодарим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Цель исследования: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Выявить влияние социальных процессов на изменение языковых средств на примере газетных заголовков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Задачи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Произвести подборку заголовков районной газеты «Сибирский труженик» за разные десятиле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Проанализировать заголовки, выявить доминирующий тип и изменения, которые в нем произош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Выявить языковые средства, передающие экспрессивно-эмоциональную окраску заголов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Этапы исследова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Анализ научной и справочной литературы по                 проблеме становления     и развития публицис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Работа с заголовками районной газеты «Сибирский труженик» за 80-е, 90-е и 2000-е г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Анализ полученного языкового матер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Обобщение полученных данных, выявление закономер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Методы исследован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Теоретические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(анализ литературы, документов, работа со словарями и справочни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Социолингвистические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(анализ влияние социальных факторов на лингвистические процесс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47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Публицистика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«общее наименование литературных произведений, рассматривающих острые, злободневные проблемы с целью повлиять на общественное мнение, вызвать у читателей активный интерес к поставленным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вопросам»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404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Публицистический стиль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– «(от лат.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Publicus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– общественный) – исторически сложившаяся функциональная разновидность литературного языка, обслуживающая широкую сферу общественных отношений: политических, экономических, культурных, повседневного быта; используется в общественно-политической литературе, периодической печати, радио и телепередачах, документальном кино и некоторых видах ораторской реч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Georgia"/>
              </a:rPr>
              <a:t>Экспрессивно-побудительные заголовки 80-х г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Все корма – к фермам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Повышать продуктивность полей и ферм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Улучшить качество бытового обслуживания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Пресечь мелкие хищения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Все на выборы!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Вопросительные заголовки 90-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Кто будет богач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Как будем менять деньг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Кто не забастует 5 ноябр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Куда скачет «темная лошадка»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Афоризмы 2000-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«Сами с усами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«Долг платежом красен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«Куда скачет «темная лошад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«Когда лебедь крякнет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Рисунок 5" descr=""/>
          <p:cNvPicPr/>
          <p:nvPr/>
        </p:nvPicPr>
        <p:blipFill>
          <a:blip r:embed="rId1"/>
          <a:stretch/>
        </p:blipFill>
        <p:spPr>
          <a:xfrm>
            <a:off x="571680" y="4500720"/>
            <a:ext cx="77864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45:58Z</dcterms:created>
  <dc:creator>Admin</dc:creator>
  <dc:description/>
  <dc:language>en-US</dc:language>
  <cp:lastModifiedBy>Dmin</cp:lastModifiedBy>
  <dcterms:modified xsi:type="dcterms:W3CDTF">2009-01-26T14:26:29Z</dcterms:modified>
  <cp:revision>10</cp:revision>
  <dc:subject/>
  <dc:title>Научное общество учащихся «ПОИСК»</dc:title>
</cp:coreProperties>
</file>